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3A7-2A0F-4899-9EC8-1D79B980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B3F-3056-4D3F-BE98-751095E7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1CA-6EA2-4E03-9A23-D0062168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400-24D3-4F76-8DB3-D0CFE78E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E72-248E-45D0-B8AA-BCDB7C9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230-A97F-4348-B7C2-458BC6B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E17-FD8C-431D-B5AA-F6259BF5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548-F74E-430C-9930-086E53DE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E36-924F-49C3-88A5-6573FF6E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E8D-FA3C-4BCE-B6D9-A5EF9C81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FC2-DC2B-4A5C-9E5B-21BDB32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BE3-626F-40C1-B022-6C5C58F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5C5D-5243-4081-BEA9-67E9643E1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54.xml"/><Relationship Id="rId8" Type="http://schemas.openxmlformats.org/officeDocument/2006/relationships/image" Target="../media/image2.png"/><Relationship Id="rId9" Type="http://schemas.openxmlformats.org/officeDocument/2006/relationships/slide" Target="slide9.xml"/><Relationship Id="rId10" Type="http://schemas.openxmlformats.org/officeDocument/2006/relationships/slide" Target="slide16.xml"/><Relationship Id="rId11" Type="http://schemas.openxmlformats.org/officeDocument/2006/relationships/image" Target="../media/image2.png"/><Relationship Id="rId12" Type="http://schemas.openxmlformats.org/officeDocument/2006/relationships/slide" Target="slide11.xml"/><Relationship Id="rId13" Type="http://schemas.openxmlformats.org/officeDocument/2006/relationships/slide" Target="slide20.xml"/><Relationship Id="rId14" Type="http://schemas.openxmlformats.org/officeDocument/2006/relationships/image" Target="../media/image2.png"/><Relationship Id="rId15" Type="http://schemas.openxmlformats.org/officeDocument/2006/relationships/slide" Target="slide13.xml"/><Relationship Id="rId16" Type="http://schemas.openxmlformats.org/officeDocument/2006/relationships/slide" Target="slide19.xml"/><Relationship Id="rId17" Type="http://schemas.openxmlformats.org/officeDocument/2006/relationships/image" Target="../media/image2.png"/><Relationship Id="rId18" Type="http://schemas.openxmlformats.org/officeDocument/2006/relationships/slide" Target="slide15.xml"/><Relationship Id="rId19" Type="http://schemas.openxmlformats.org/officeDocument/2006/relationships/slide" Target="slide28.xml"/><Relationship Id="rId20" Type="http://schemas.openxmlformats.org/officeDocument/2006/relationships/image" Target="../media/image2.png"/><Relationship Id="rId21" Type="http://schemas.openxmlformats.org/officeDocument/2006/relationships/slide" Target="slide17.xml"/><Relationship Id="rId22" Type="http://schemas.openxmlformats.org/officeDocument/2006/relationships/slide" Target="slide32.xml"/><Relationship Id="rId23" Type="http://schemas.openxmlformats.org/officeDocument/2006/relationships/image" Target="../media/image2.png"/><Relationship Id="rId24" Type="http://schemas.openxmlformats.org/officeDocument/2006/relationships/slide" Target="slide19.xml"/><Relationship Id="rId25" Type="http://schemas.openxmlformats.org/officeDocument/2006/relationships/slide" Target="slide36.xml"/><Relationship Id="rId26" Type="http://schemas.openxmlformats.org/officeDocument/2006/relationships/image" Target="../media/image2.png"/><Relationship Id="rId27" Type="http://schemas.openxmlformats.org/officeDocument/2006/relationships/slide" Target="slide21.xml"/><Relationship Id="rId28" Type="http://schemas.openxmlformats.org/officeDocument/2006/relationships/slide" Target="slide41.xml"/><Relationship Id="rId29" Type="http://schemas.openxmlformats.org/officeDocument/2006/relationships/image" Target="../media/image2.png"/><Relationship Id="rId30" Type="http://schemas.openxmlformats.org/officeDocument/2006/relationships/slide" Target="slide23.xml"/><Relationship Id="rId31" Type="http://schemas.openxmlformats.org/officeDocument/2006/relationships/slide" Target="slide44.xml"/><Relationship Id="rId32" Type="http://schemas.openxmlformats.org/officeDocument/2006/relationships/image" Target="../media/image2.png"/><Relationship Id="rId33" Type="http://schemas.openxmlformats.org/officeDocument/2006/relationships/slide" Target="slide25.xml"/><Relationship Id="rId34" Type="http://schemas.openxmlformats.org/officeDocument/2006/relationships/slide" Target="slide48.xml"/><Relationship Id="rId35" Type="http://schemas.openxmlformats.org/officeDocument/2006/relationships/image" Target="../media/image2.png"/><Relationship Id="rId36" Type="http://schemas.openxmlformats.org/officeDocument/2006/relationships/slide" Target="slide27.xml"/><Relationship Id="rId37" Type="http://schemas.openxmlformats.org/officeDocument/2006/relationships/slide" Target="slide52.xml"/><Relationship Id="rId38" Type="http://schemas.openxmlformats.org/officeDocument/2006/relationships/image" Target="../media/image2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slide" Target="slide31.xml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ssential Question Topic Jeopardy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opardy Review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alse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ajor injur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asing your muscle mass lowers your metabolism so your body burns the energy you consume slow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0960" y="233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the 5 Elements of Fitnes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ardiorespiratory endurance, muscular strength, muscular endurance, flexibility, and body composi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measure muscular strength and endurance you would use which tests (2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hat is…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artial Curl-Ups and Right-Angle Push-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of the following is a good test of your cardiorespiratory fitness?: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: how many curl ups you can do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: How heavy a weight you can lif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: The time it takes you to run or walk a mi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hat is…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: The time it takes you to run or walk a mi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14320" y="256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bility of your heart and lungs, and blood vessels to send fuel and oxygen to your tissues during long periods of moderate to vigorous activity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>
            <a:hlinkClick r:id="rId4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>
            <a:hlinkClick r:id="rId7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>
            <a:hlinkClick r:id="rId10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">
            <a:hlinkClick r:id="rId13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rId1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rId1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>
            <a:hlinkClick r:id="rId2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>
            <a:hlinkClick r:id="rId2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7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>
            <a:hlinkClick r:id="rId2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0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3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>
            <a:hlinkClick r:id="rId34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>
            <a:hlinkClick r:id="rId3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1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ue 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t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ur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CE &amp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T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0" y="0"/>
            <a:ext cx="380880" cy="304920"/>
          </a:xfrm>
          <a:custGeom>
            <a:avLst/>
            <a:gdLst>
              <a:gd name="textAreaLeft" fmla="*/ 117720 w 380880"/>
              <a:gd name="textAreaRight" fmla="*/ 263160 w 38088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6" y="304799"/>
                </a:lnTo>
                <a:lnTo>
                  <a:pt x="190500" y="232845"/>
                </a:lnTo>
                <a:lnTo>
                  <a:pt x="72764" y="304799"/>
                </a:lnTo>
                <a:lnTo>
                  <a:pt x="117737" y="18837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ardiorespiratory Enduran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1676160"/>
            <a:ext cx="7885080" cy="31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ability to move your body parts through their full range of motion is known as what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volving little physical activity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dentar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ercising at a level that’s beyond your regular daily activities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verloa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nse short bursts of activity in which the muscles work so hard that they produce energy without using oxygen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aerobic Exerci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vements of the joints without contraction of the muscles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ens should aim for 30 minutes of physical activity everyday or most day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Isotonic Exercis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form of movement that causes your body to use energy is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ysical Activit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a dangerous condition in which the body loses its ability to cool itself through perspirati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eatstrok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causes damage to the skin and tissues caused by extreme col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stb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juries to the ligaments around a joint are known as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owsiness, weakness, and slowed breathing and heart rate are symptoms of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alse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60 minu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herm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447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etching the affected muscle will usually relieve wha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uscle cram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01720" y="291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the P PRICE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rot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the C PRICE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ompress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the F in FITT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requency of Workou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0960" y="2347560"/>
            <a:ext cx="77724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the I FITT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mental or emotional benefit of being physically active is improved self este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nsity of Workou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 the Ts in FITT stand f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05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ype and Ti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61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INAL JEOPARDY QUESTION: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hat are the 3 types of condoms that help to prevent STDs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0960" y="160308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What are…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lambskin, latex, polyuretha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osure to wind and sun can lead to windburn, sunburn, skin cancer, and eye dam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llowing are considered minor injuries:  Fractures, dislocations and concuss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3:47:24Z</dcterms:created>
  <dc:creator>Brandon Hall</dc:creator>
  <dc:description/>
  <dc:language>en-US</dc:language>
  <cp:lastModifiedBy>LHerring</cp:lastModifiedBy>
  <dcterms:modified xsi:type="dcterms:W3CDTF">2012-06-28T17:38:26Z</dcterms:modified>
  <cp:revision>65</cp:revision>
  <dc:subject/>
  <dc:title>Math Module II Review</dc:title>
</cp:coreProperties>
</file>